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93048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65320" y="690120"/>
            <a:ext cx="4611600" cy="34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93048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10D1E64-DDAB-451D-8818-A0E8FBBFC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al annotation results for Bro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 of genome = 100(# basepairs/3,000,000,0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 known count scales up to 21,888 genes in the gen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Seq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  66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 - 57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 - 118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 - 25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- 267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sembl found 960 pseudogenes in the entire genome: clearly too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otated 23,299 genes in the entire gen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393048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AA4DF1A-7BD0-4E19-A1D4-D32306436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93048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T329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‘most exciting exon’ hierarchy in which extra &gt; skip &gt; alt &gt; run on.  Hence lower types on the table may be contained within higher types as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frequencies, “pure cases” as % of type, and “pure cases” as % of total for each type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 si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 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 of 1229 full length variants aligned to their known counter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results are seen for all variants aligned to know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% of variants are full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5’ exons – 7% of all var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3’ exons – 3 % of all var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top stat only applies to cases with inserted sequence (extra exon, alt sites which extend an exon, and run 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65320" y="69048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 % positive for 5'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1 % positive for 3'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 % positive for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9 % positive for ei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an 5' extension =  46 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an 3' extension = 143 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93048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6FE794A-CA88-4D94-97D6-78015A8E6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93048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T23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93048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1B558B4-73F5-4779-A3C6-15874AC2C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93048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HsT34389|HsG15518|Novel_CDS|21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93048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5BF2BEE-79DB-4AA2-8670-A97500A48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93048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G15104- GEMIN4 gene; several additional alternative splice forms; extra UTR and longer gen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includ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s, GenBank, GenPept, MGC, RefS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A computes metrics but also flags certain genes for manual insp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ation is in GenBank and the Vega D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7645-02F6-43FB-92BE-BED5C509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0127-E0F1-44B9-93B1-276A0CF9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C8EE-F19C-4D97-95C3-414A507B3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3663-7A96-4846-9738-F0C06A409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B1B10-61FC-4302-987D-372825177F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96B26-5883-45F1-9CE1-D64DB75057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441D9-8F5D-47A9-89DB-17CFD40614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50949-09EF-4DFE-B79E-3A56672D3A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BBBFE-518A-4B9C-9995-8FF641ED57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60120"/>
            <a:ext cx="861048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1E070-D1F0-4191-B2A3-B3434B8538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B2BBB-DB65-476F-9F3B-AD9BFA1065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0935-C6EB-4F67-A5F3-2B1A2199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EEA2C-1D71-4A4F-B557-A494C30442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DD103-8097-44E2-BB90-65FBB59046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8D694-7615-4B71-BA6D-F32480BD43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0632D-F9B5-4AB9-BBAD-7D14B51098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12298-C4C3-4188-9DFB-EDF95592F9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8A21-E485-4867-9C05-C8405B4B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3433-E7D9-41B7-8536-37655D6E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2097-D072-4378-A9CE-232320F9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60120"/>
            <a:ext cx="861048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E8BF-2FA0-4BEF-8F53-F039C4AE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9755-4097-4466-AD81-3C713C0D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C7EB-73C9-4FAD-867D-0EED5ACA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1C01-D1A5-455F-ADA5-8C30E2B1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嘀攀爀搀愀渀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嘀攀爀搀愀渀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嘀攀爀搀愀渀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嘀攀爀搀愀渀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嘀攀爀搀愀渀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嘀攀爀搀愀渀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嘀攀爀搀愀渀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嘀攀爀搀愀渀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嘀攀爀搀愀渀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9640" y="662904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嘀攀爀搀愀渀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2F23-A5FF-4667-8B61-74E889B9BD17}" type="slidenum">
              <a:rPr b="0" lang="en-US" sz="1400" spc="-1" strike="noStrike">
                <a:solidFill>
                  <a:srgbClr val="000000"/>
                </a:solidFill>
                <a:latin typeface="嘀攀爀搀愀渀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79400" y="1947600"/>
            <a:ext cx="7678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嘀攀爀搀愀渀愀"/>
              </a:rPr>
              <a:t>Click to edit the title text format</a:t>
            </a:r>
            <a:endParaRPr b="0" lang="en-US" sz="3200" spc="-1" strike="noStrike">
              <a:solidFill>
                <a:srgbClr val="336699"/>
              </a:solidFill>
              <a:latin typeface="嘀攀爀搀愀渀愀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228240" y="6629040"/>
            <a:ext cx="5715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嘀攀爀搀愀渀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嘀攀爀搀愀渀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7162560" y="6629040"/>
            <a:ext cx="19047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嘀攀爀搀愀渀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3256-9020-4971-BB72-E451B1D0AC22}" type="slidenum">
              <a:rPr b="0" lang="en-US" sz="1400" spc="-1" strike="noStrike">
                <a:solidFill>
                  <a:srgbClr val="000000"/>
                </a:solidFill>
                <a:latin typeface="嘀攀爀搀愀渀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18180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嘀攀爀搀愀渀愀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89" name=""/>
          <p:cNvSpPr/>
          <p:nvPr/>
        </p:nvSpPr>
        <p:spPr>
          <a:xfrm>
            <a:off x="3092400" y="3017880"/>
            <a:ext cx="4572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nnappa Kodi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MOD 2004, Cambridge, M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54960" y="1116000"/>
            <a:ext cx="669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Times New Roman"/>
              </a:rPr>
              <a:t>Manual Annotation of Human Geno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a0000"/>
                </a:solidFill>
                <a:latin typeface="Times New Roman"/>
              </a:rPr>
              <a:t>at Broad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ual annotation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841320"/>
            <a:ext cx="1346040" cy="873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5240" y="1222200"/>
            <a:ext cx="159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Hunter Gene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50960" y="163836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1193760"/>
            <a:ext cx="3495600" cy="412344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ine Gene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on/Int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’ and 5’ U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New G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y Transcri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Automated Gene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Pseudog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uration Fla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/Adjust O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PolyA Sig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31200" y="5748480"/>
            <a:ext cx="1295280" cy="576000"/>
          </a:xfrm>
          <a:prstGeom prst="can">
            <a:avLst>
              <a:gd name="adj" fmla="val 25000"/>
            </a:avLst>
          </a:prstGeom>
          <a:solidFill>
            <a:srgbClr val="1e5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78560" y="5959440"/>
            <a:ext cx="159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nnot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07240" y="5246640"/>
            <a:ext cx="1563480" cy="52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Features of Argo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1440" y="818640"/>
            <a:ext cx="823896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Attaching primary and supplemental evidence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Cluster feature display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Filtering and customizing evidence list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Display poly A signals  and splice junctions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Alerting discrepancies before updating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Highlighting parent and child features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Real-time interactive analysis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ORF selection options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Tabular dump of selected features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Roll back and save work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Customization of feature display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Annotation View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28600" y="744480"/>
            <a:ext cx="8610480" cy="5746680"/>
            <a:chOff x="228600" y="744480"/>
            <a:chExt cx="8610480" cy="5746680"/>
          </a:xfrm>
        </p:grpSpPr>
        <p:grpSp>
          <p:nvGrpSpPr>
            <p:cNvPr id="182" name=""/>
            <p:cNvGrpSpPr/>
            <p:nvPr/>
          </p:nvGrpSpPr>
          <p:grpSpPr>
            <a:xfrm>
              <a:off x="228600" y="744480"/>
              <a:ext cx="8610480" cy="5746680"/>
              <a:chOff x="228600" y="744480"/>
              <a:chExt cx="8610480" cy="5746680"/>
            </a:xfrm>
          </p:grpSpPr>
          <p:pic>
            <p:nvPicPr>
              <p:cNvPr id="183" name="" descr=""/>
              <p:cNvPicPr/>
              <p:nvPr/>
            </p:nvPicPr>
            <p:blipFill>
              <a:blip r:embed="rId2"/>
              <a:srcRect l="2970" t="0" r="8907" b="26498"/>
              <a:stretch/>
            </p:blipFill>
            <p:spPr>
              <a:xfrm>
                <a:off x="228600" y="744480"/>
                <a:ext cx="8610480" cy="574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3"/>
              <a:srcRect l="3203" t="43752" r="54675" b="42024"/>
              <a:stretch/>
            </p:blipFill>
            <p:spPr>
              <a:xfrm>
                <a:off x="280800" y="5373720"/>
                <a:ext cx="4115520" cy="1112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5" name="" descr=""/>
            <p:cNvPicPr/>
            <p:nvPr/>
          </p:nvPicPr>
          <p:blipFill>
            <a:blip r:embed="rId4"/>
            <a:srcRect l="39872" t="27899" r="40117" b="54926"/>
            <a:stretch/>
          </p:blipFill>
          <p:spPr>
            <a:xfrm>
              <a:off x="6753240" y="1913040"/>
              <a:ext cx="2085840" cy="136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嘀攀爀搀愀渀愀"/>
              </a:rPr>
              <a:t>Confidence levels of our gene models</a:t>
            </a: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30200" y="1282680"/>
            <a:ext cx="82123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Classification of transcripts –Hawk standards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27920" indent="-28008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Known, Novel_CDS, Novel, Putative, Pseudogene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-3358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Association of primary and supplemental evidence with annotated feature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-3358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Rank order in selection of supporting evidence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-3358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Curation flags  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-3358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Free text comments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Gene counts for Broad and Ensembl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1806480"/>
          <a:ext cx="9128160" cy="2511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06480"/>
                    <a:ext cx="9128160" cy="25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18180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嘀攀爀搀愀渀愀"/>
              </a:rPr>
              <a:t>Manually Annotated Gene Models vs. public Gene Models</a:t>
            </a:r>
            <a:endParaRPr b="0" lang="en-US" sz="24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0" y="1060560"/>
          <a:ext cx="8534520" cy="541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60560"/>
                    <a:ext cx="853452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8131320" y="1325520"/>
            <a:ext cx="141120" cy="1098720"/>
          </a:xfrm>
          <a:custGeom>
            <a:avLst/>
            <a:gdLst>
              <a:gd name="textAreaLeft" fmla="*/ 0 w 141120"/>
              <a:gd name="textAreaRight" fmla="*/ 50760 w 141120"/>
              <a:gd name="textAreaTop" fmla="*/ 28440 h 1098720"/>
              <a:gd name="textAreaBottom" fmla="*/ 1070280 h 10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05920" y="1650960"/>
            <a:ext cx="13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034480" y="321480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G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7040" y="361800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s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97440" y="3879720"/>
            <a:ext cx="771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62240" y="4037040"/>
            <a:ext cx="273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SEMB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41880" y="6019920"/>
            <a:ext cx="27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-w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79720" y="5813280"/>
            <a:ext cx="195480" cy="757440"/>
          </a:xfrm>
          <a:custGeom>
            <a:avLst/>
            <a:gdLst>
              <a:gd name="textAreaLeft" fmla="*/ 0 w 195480"/>
              <a:gd name="textAreaRight" fmla="*/ 70560 w 195480"/>
              <a:gd name="textAreaTop" fmla="*/ 19440 h 757440"/>
              <a:gd name="textAreaBottom" fmla="*/ 738000 h 7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37560" y="4781520"/>
            <a:ext cx="326880" cy="849240"/>
          </a:xfrm>
          <a:custGeom>
            <a:avLst/>
            <a:gdLst>
              <a:gd name="textAreaLeft" fmla="*/ 0 w 326880"/>
              <a:gd name="textAreaRight" fmla="*/ 118080 w 326880"/>
              <a:gd name="textAreaTop" fmla="*/ 21960 h 849240"/>
              <a:gd name="textAreaBottom" fmla="*/ 827280 h 84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137440" y="4976640"/>
            <a:ext cx="10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R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4676760" y="2117880"/>
            <a:ext cx="3914640" cy="287280"/>
            <a:chOff x="4676760" y="2117880"/>
            <a:chExt cx="3914640" cy="287280"/>
          </a:xfrm>
        </p:grpSpPr>
        <p:sp>
          <p:nvSpPr>
            <p:cNvPr id="205" name=""/>
            <p:cNvSpPr/>
            <p:nvPr/>
          </p:nvSpPr>
          <p:spPr>
            <a:xfrm>
              <a:off x="4702320" y="2262240"/>
              <a:ext cx="388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76760" y="2119320"/>
              <a:ext cx="682560" cy="285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37440" y="2119320"/>
              <a:ext cx="682560" cy="28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08840" y="2119320"/>
              <a:ext cx="682560" cy="2858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94480" y="2117880"/>
              <a:ext cx="309240" cy="2854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Types of splice variation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93760" y="1362240"/>
          <a:ext cx="4178160" cy="2993760"/>
        </p:xfrm>
        <a:graphic>
          <a:graphicData uri="http://schemas.openxmlformats.org/drawingml/2006/table">
            <a:tbl>
              <a:tblPr/>
              <a:tblGrid>
                <a:gridCol w="2070000"/>
                <a:gridCol w="210816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varia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ext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sk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alt s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run 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12" name=""/>
          <p:cNvGrpSpPr/>
          <p:nvPr/>
        </p:nvGrpSpPr>
        <p:grpSpPr>
          <a:xfrm>
            <a:off x="4676760" y="1533600"/>
            <a:ext cx="3914280" cy="285480"/>
            <a:chOff x="4676760" y="1533600"/>
            <a:chExt cx="3914280" cy="285480"/>
          </a:xfrm>
        </p:grpSpPr>
        <p:sp>
          <p:nvSpPr>
            <p:cNvPr id="213" name=""/>
            <p:cNvSpPr/>
            <p:nvPr/>
          </p:nvSpPr>
          <p:spPr>
            <a:xfrm>
              <a:off x="4702320" y="1676520"/>
              <a:ext cx="38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676760" y="1533600"/>
              <a:ext cx="682560" cy="2854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37440" y="1533600"/>
              <a:ext cx="682560" cy="2854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08480" y="1533600"/>
              <a:ext cx="682560" cy="2854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676760" y="3330720"/>
            <a:ext cx="3914280" cy="299520"/>
            <a:chOff x="4676760" y="3330720"/>
            <a:chExt cx="3914280" cy="299520"/>
          </a:xfrm>
        </p:grpSpPr>
        <p:sp>
          <p:nvSpPr>
            <p:cNvPr id="218" name=""/>
            <p:cNvSpPr/>
            <p:nvPr/>
          </p:nvSpPr>
          <p:spPr>
            <a:xfrm>
              <a:off x="4702320" y="3487320"/>
              <a:ext cx="388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76760" y="3345120"/>
              <a:ext cx="682200" cy="2847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72240" y="3345120"/>
              <a:ext cx="347760" cy="2847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64040" y="3330720"/>
              <a:ext cx="927000" cy="2995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676760" y="3938760"/>
            <a:ext cx="2601720" cy="285120"/>
            <a:chOff x="4676760" y="3938760"/>
            <a:chExt cx="2601720" cy="285120"/>
          </a:xfrm>
        </p:grpSpPr>
        <p:sp>
          <p:nvSpPr>
            <p:cNvPr id="223" name=""/>
            <p:cNvSpPr/>
            <p:nvPr/>
          </p:nvSpPr>
          <p:spPr>
            <a:xfrm>
              <a:off x="4702320" y="4081680"/>
              <a:ext cx="200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76760" y="3938760"/>
              <a:ext cx="682200" cy="2851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38160" y="3938760"/>
              <a:ext cx="940320" cy="2851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6" name=""/>
          <p:cNvGraphicFramePr/>
          <p:nvPr/>
        </p:nvGraphicFramePr>
        <p:xfrm>
          <a:off x="2395440" y="5010120"/>
          <a:ext cx="4199040" cy="1035000"/>
        </p:xfrm>
        <a:graphic>
          <a:graphicData uri="http://schemas.openxmlformats.org/drawingml/2006/table">
            <a:tbl>
              <a:tblPr/>
              <a:tblGrid>
                <a:gridCol w="3125880"/>
                <a:gridCol w="1073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CDS alte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84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new sto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48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7" name=""/>
          <p:cNvGrpSpPr/>
          <p:nvPr/>
        </p:nvGrpSpPr>
        <p:grpSpPr>
          <a:xfrm>
            <a:off x="4676760" y="2736720"/>
            <a:ext cx="3914280" cy="285480"/>
            <a:chOff x="4676760" y="2736720"/>
            <a:chExt cx="3914280" cy="285480"/>
          </a:xfrm>
        </p:grpSpPr>
        <p:sp>
          <p:nvSpPr>
            <p:cNvPr id="228" name=""/>
            <p:cNvSpPr/>
            <p:nvPr/>
          </p:nvSpPr>
          <p:spPr>
            <a:xfrm>
              <a:off x="4702320" y="2879280"/>
              <a:ext cx="388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76760" y="2736720"/>
              <a:ext cx="682560" cy="28548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908480" y="2736720"/>
              <a:ext cx="682560" cy="28548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489240"/>
            <a:ext cx="8610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Our data extend most RefSeq/MGC transcripts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87200" y="847800"/>
            <a:ext cx="8788680" cy="60102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869080" y="2809800"/>
            <a:ext cx="2458800" cy="14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8 % positive for 5'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 % positive for 3'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% positive for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9 % positive for ei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5' extension =  46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3' extension = 143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嘀攀爀搀愀渀愀"/>
              </a:rPr>
              <a:t>Complete 3 end as compared to Refseq mRNA and ENSEMBL gene</a:t>
            </a:r>
            <a:endParaRPr b="0" lang="en-US" sz="14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0" y="1066680"/>
          <a:ext cx="9144000" cy="556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66680"/>
                    <a:ext cx="9144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How valid are these 3’ and 5’ extensions ?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425600" y="1476360"/>
          <a:ext cx="5838840" cy="3600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5600" y="1476360"/>
                    <a:ext cx="583884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Accurate and comprehensive catalog of genes and gene products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Robust annotation system for annotation  of all sequenced genomes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4480" y="-305640"/>
            <a:ext cx="893916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嘀攀爀搀愀渀愀"/>
              </a:rPr>
              <a:t>Using Start and Stop Codon Context  to Refine Annotation</a:t>
            </a: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572000" y="1523880"/>
          <a:ext cx="441972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523880"/>
                    <a:ext cx="44197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57200" y="1523880"/>
          <a:ext cx="4114800" cy="41911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1523880"/>
                    <a:ext cx="41148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1981080" y="4419720"/>
            <a:ext cx="1524240" cy="75960"/>
          </a:xfrm>
          <a:prstGeom prst="leftRightArrow">
            <a:avLst>
              <a:gd name="adj1" fmla="val 50000"/>
              <a:gd name="adj2" fmla="val 399469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48520" y="4495680"/>
            <a:ext cx="1676160" cy="76320"/>
          </a:xfrm>
          <a:prstGeom prst="leftRightArrow">
            <a:avLst>
              <a:gd name="adj1" fmla="val 50000"/>
              <a:gd name="adj2" fmla="val 43721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629400" y="2095560"/>
            <a:ext cx="1828800" cy="1143000"/>
          </a:xfrm>
          <a:prstGeom prst="wedgeRectCallout">
            <a:avLst>
              <a:gd name="adj1" fmla="val -33851"/>
              <a:gd name="adj2" fmla="val 1502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Pseudo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Real Stop co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NMD candi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quence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Non-coding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CIS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7440" y="2109960"/>
            <a:ext cx="1828800" cy="1066680"/>
          </a:xfrm>
          <a:prstGeom prst="wedgeRectCallout">
            <a:avLst>
              <a:gd name="adj1" fmla="val -33851"/>
              <a:gd name="adj2" fmla="val 1574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Pseudo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Real Start co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NMD candi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quence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Non-coding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Issues with Novel and putative transcripts  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18920" y="1376280"/>
            <a:ext cx="377172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51" name=""/>
          <p:cNvSpPr/>
          <p:nvPr/>
        </p:nvSpPr>
        <p:spPr>
          <a:xfrm>
            <a:off x="303120" y="1139760"/>
            <a:ext cx="4329360" cy="5718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depth EST 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transcript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no of vari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coding 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cross-species con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poly A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CpG 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05280" y="1173240"/>
            <a:ext cx="4025880" cy="5684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urious transcrip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ly par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oral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ly expre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ge specific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639720"/>
            <a:ext cx="26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0000"/>
                </a:solidFill>
                <a:uFillTx/>
                <a:latin typeface="Times New Roman"/>
              </a:rPr>
              <a:t>Conc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95960" y="6429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0000"/>
                </a:solidFill>
                <a:uFillTx/>
                <a:latin typeface="Times New Roman"/>
              </a:rPr>
              <a:t>Probable rea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Putative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 Novel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 Known Transcript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373480" y="1905120"/>
          <a:ext cx="5189400" cy="419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73480" y="1905120"/>
                    <a:ext cx="51894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5981760" y="2082960"/>
            <a:ext cx="1359000" cy="142236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62320" y="2095560"/>
            <a:ext cx="2921040" cy="166356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24160" y="3949560"/>
            <a:ext cx="5397480" cy="25416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16520" y="1689120"/>
            <a:ext cx="16765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t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33560" y="1690560"/>
            <a:ext cx="1676520" cy="3812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3120" y="3849840"/>
            <a:ext cx="1676520" cy="380880"/>
          </a:xfrm>
          <a:prstGeom prst="rect">
            <a:avLst/>
          </a:prstGeom>
          <a:solidFill>
            <a:srgbClr val="245a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18180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嘀攀爀搀愀渀愀"/>
              </a:rPr>
              <a:t>Annotating Non-coding mRNAs is still a challenge !!!</a:t>
            </a:r>
            <a:endParaRPr b="0" lang="en-US" sz="24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63520" y="2822400"/>
          <a:ext cx="8690040" cy="30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3520" y="2822400"/>
                    <a:ext cx="8690040" cy="30434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1171440" y="4367160"/>
            <a:ext cx="312840" cy="649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21400" y="2811600"/>
            <a:ext cx="264960" cy="1643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65720" y="2703600"/>
            <a:ext cx="333360" cy="1751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27960" y="2673360"/>
            <a:ext cx="284040" cy="1760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04960" y="1200240"/>
            <a:ext cx="304812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no RNA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375920" y="2143080"/>
            <a:ext cx="1366920" cy="216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876920" y="2114640"/>
            <a:ext cx="9360" cy="75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2163600"/>
            <a:ext cx="766800" cy="59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43720" y="2152800"/>
            <a:ext cx="109188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嘀攀爀搀愀渀愀"/>
              </a:rPr>
              <a:t>Challenges Ahead….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6160" y="1104840"/>
            <a:ext cx="818676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Establishing Common Standards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Validating Novel Transcripts 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Single Exon Expressed Sequences 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Determination of Accurate ORFs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Annotation of Functionally Relevant Alternative Splice Forms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Finding Sparsely Expressed Genes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Annotation of New Types of Non-coding Functional mRNAs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Incremental Update of Annotation 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Capturing Biological Exceptions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18180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嘀攀爀搀愀渀愀"/>
              </a:rPr>
              <a:t>Acknowledgements</a:t>
            </a:r>
            <a:endParaRPr b="0" lang="en-US" sz="24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279" name=""/>
          <p:cNvSpPr/>
          <p:nvPr/>
        </p:nvSpPr>
        <p:spPr>
          <a:xfrm>
            <a:off x="507960" y="1644480"/>
            <a:ext cx="3738600" cy="38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inhard Eng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unguang Wa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h Pur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 Elk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uhong W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ge Smirn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rah Cal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vid Dicap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94400" y="985680"/>
            <a:ext cx="3725640" cy="40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notation and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lie Whitta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 Borows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ead O’le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mes Galag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ill Mesir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ic La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quencing, Finishing and Closure Te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76400" y="1238400"/>
            <a:ext cx="3281400" cy="412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40200" y="1265400"/>
            <a:ext cx="3106800" cy="186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53160" y="3281400"/>
            <a:ext cx="310644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45600" y="1471680"/>
            <a:ext cx="21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notation Pip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嘀攀爀搀愀渀愀"/>
              </a:rPr>
              <a:t>Comparison of alternative splice forms between ENSEMBL and  Broad annotation</a:t>
            </a:r>
            <a:endParaRPr b="0" lang="en-US" sz="12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80880" y="914400"/>
          <a:ext cx="8077320" cy="579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914400"/>
                    <a:ext cx="80773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 flipV="1">
            <a:off x="838080" y="31240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808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4343400"/>
            <a:ext cx="304560" cy="2133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51814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Br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048120"/>
            <a:ext cx="1219320" cy="380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SEMB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" y="3581280"/>
            <a:ext cx="990720" cy="4572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990720"/>
            <a:ext cx="838080" cy="838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2438280"/>
            <a:ext cx="114300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nt-m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57160" y="185760"/>
            <a:ext cx="74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nually Annotated Gene Models vs. public Gene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380880" y="1752480"/>
          <a:ext cx="8534520" cy="510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752480"/>
                    <a:ext cx="85345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4343400" y="4648320"/>
            <a:ext cx="129528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EMB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343400" y="4343400"/>
            <a:ext cx="1295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W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43400" y="4038480"/>
            <a:ext cx="12952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67080" y="2895480"/>
            <a:ext cx="1447920" cy="9144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cript Hu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267080" y="1981080"/>
            <a:ext cx="144792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O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343400" y="5181480"/>
            <a:ext cx="1295280" cy="1676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" y="1219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19320" y="1143000"/>
            <a:ext cx="1218960" cy="2286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A sig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51000" y="162000"/>
            <a:ext cx="62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Novel Transcript Variants of Known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8180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嘀攀爀搀愀渀愀"/>
              </a:rPr>
              <a:t>Annotation Strategy: Evidence-based Annotation</a:t>
            </a:r>
            <a:endParaRPr b="0" lang="en-US" sz="24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990720"/>
          <a:ext cx="8229600" cy="40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90720"/>
                    <a:ext cx="822960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457200" y="5105520"/>
            <a:ext cx="3581280" cy="1447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MD1 ge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Size: 2065,608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 Length: 11,297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Length: 3565 a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f Exons: 68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length of Exons : 166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5105520"/>
            <a:ext cx="3048120" cy="1447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gensh 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scan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t_EST 1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N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90240" y="60120"/>
            <a:ext cx="695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Rule-based Annotation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00" name=""/>
          <p:cNvSpPr/>
          <p:nvPr/>
        </p:nvSpPr>
        <p:spPr>
          <a:xfrm>
            <a:off x="600120" y="728640"/>
            <a:ext cx="7986600" cy="5829480"/>
          </a:xfrm>
          <a:prstGeom prst="flowChartMerg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-m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es-specific 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pecies 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hom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res + GenePred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2880" y="1671480"/>
            <a:ext cx="42840" cy="188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0040" y="367200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Times New Roman"/>
              </a:rPr>
              <a:t>Decreasing order of confidenc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00120" y="5272200"/>
            <a:ext cx="14400" cy="10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Annotation System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3324240"/>
            <a:ext cx="1305000" cy="1181160"/>
          </a:xfrm>
          <a:prstGeom prst="flowChartMagneticDisk">
            <a:avLst/>
          </a:prstGeom>
          <a:gradFill rotWithShape="0">
            <a:gsLst>
              <a:gs pos="0">
                <a:srgbClr val="07006a"/>
              </a:gs>
              <a:gs pos="50000">
                <a:srgbClr val="1100e8"/>
              </a:gs>
              <a:gs pos="100000">
                <a:srgbClr val="07006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19600" y="3314880"/>
            <a:ext cx="1295280" cy="361800"/>
          </a:xfrm>
          <a:prstGeom prst="ellipse">
            <a:avLst/>
          </a:prstGeom>
          <a:solidFill>
            <a:srgbClr val="ffffc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756080" y="3665520"/>
            <a:ext cx="2878560" cy="1735560"/>
            <a:chOff x="1756080" y="3665520"/>
            <a:chExt cx="2878560" cy="1735560"/>
          </a:xfrm>
        </p:grpSpPr>
        <p:grpSp>
          <p:nvGrpSpPr>
            <p:cNvPr id="108" name=""/>
            <p:cNvGrpSpPr/>
            <p:nvPr/>
          </p:nvGrpSpPr>
          <p:grpSpPr>
            <a:xfrm>
              <a:off x="2245320" y="3665520"/>
              <a:ext cx="2389320" cy="1708560"/>
              <a:chOff x="2245320" y="3665520"/>
              <a:chExt cx="2389320" cy="1708560"/>
            </a:xfrm>
          </p:grpSpPr>
          <p:sp>
            <p:nvSpPr>
              <p:cNvPr id="109" name=""/>
              <p:cNvSpPr/>
              <p:nvPr/>
            </p:nvSpPr>
            <p:spPr>
              <a:xfrm rot="16200000">
                <a:off x="3242160" y="3981600"/>
                <a:ext cx="1109160" cy="167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852" y="440"/>
                    </a:moveTo>
                    <a:arcTo wR="10800" hR="10800" stAng="-4414994" swAng="44149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852" y="440"/>
                    </a:moveTo>
                    <a:arcTo wR="10800" hR="10800" stAng="-4414994" swAng="4414994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 flipV="1" rot="16200000">
                <a:off x="2528280" y="3381840"/>
                <a:ext cx="1109160" cy="167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852" y="440"/>
                    </a:moveTo>
                    <a:arcTo wR="10800" hR="10800" stAng="-4414994" swAng="44149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852" y="440"/>
                    </a:moveTo>
                    <a:arcTo wR="10800" hR="10800" stAng="-4414994" swAng="4414994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756080" y="4697280"/>
              <a:ext cx="1480680" cy="703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utomate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eneCall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200560" y="2744640"/>
            <a:ext cx="2347920" cy="665280"/>
            <a:chOff x="5200560" y="2744640"/>
            <a:chExt cx="2347920" cy="665280"/>
          </a:xfrm>
        </p:grpSpPr>
        <p:sp>
          <p:nvSpPr>
            <p:cNvPr id="113" name=""/>
            <p:cNvSpPr/>
            <p:nvPr/>
          </p:nvSpPr>
          <p:spPr>
            <a:xfrm flipV="1">
              <a:off x="5200560" y="2990880"/>
              <a:ext cx="676440" cy="41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80240" y="2744640"/>
              <a:ext cx="16682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b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740040" y="37544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9"/>
                </a:solidFill>
                <a:latin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43720" y="1039680"/>
            <a:ext cx="3100680" cy="2246400"/>
            <a:chOff x="2943720" y="1039680"/>
            <a:chExt cx="3100680" cy="2246400"/>
          </a:xfrm>
        </p:grpSpPr>
        <p:sp>
          <p:nvSpPr>
            <p:cNvPr id="117" name=""/>
            <p:cNvSpPr/>
            <p:nvPr/>
          </p:nvSpPr>
          <p:spPr>
            <a:xfrm>
              <a:off x="4457880" y="2619360"/>
              <a:ext cx="0" cy="66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97360" y="2144880"/>
              <a:ext cx="1128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43720" y="1039680"/>
              <a:ext cx="1349640" cy="459720"/>
            </a:xfrm>
            <a:prstGeom prst="rect">
              <a:avLst/>
            </a:prstGeom>
            <a:noFill/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eno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12320" y="1049400"/>
              <a:ext cx="1432080" cy="45972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id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48200" y="1514520"/>
              <a:ext cx="209520" cy="628560"/>
            </a:xfrm>
            <a:prstGeom prst="downArrow">
              <a:avLst>
                <a:gd name="adj1" fmla="val 57574"/>
                <a:gd name="adj2" fmla="val 75000"/>
              </a:avLst>
            </a:prstGeom>
            <a:noFill/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10160" y="1523880"/>
              <a:ext cx="209520" cy="628920"/>
            </a:xfrm>
            <a:prstGeom prst="downArrow">
              <a:avLst>
                <a:gd name="adj1" fmla="val 57574"/>
                <a:gd name="adj2" fmla="val 75043"/>
              </a:avLst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544760" y="5451480"/>
            <a:ext cx="18954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cript H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46760" y="5210280"/>
            <a:ext cx="2678040" cy="614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ual An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89400" y="5337000"/>
            <a:ext cx="2431800" cy="171720"/>
          </a:xfrm>
          <a:prstGeom prst="leftRightArrow">
            <a:avLst>
              <a:gd name="adj1" fmla="val 50000"/>
              <a:gd name="adj2" fmla="val 2819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65680" y="4730760"/>
            <a:ext cx="2965680" cy="4446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o Genome 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0194200">
            <a:off x="4680360" y="4167720"/>
            <a:ext cx="1111320" cy="155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52" y="440"/>
                </a:moveTo>
                <a:arcTo wR="10800" hR="10800" stAng="-4414994" swAng="4414994"/>
                <a:lnTo>
                  <a:pt x="10800" y="10800"/>
                </a:lnTo>
                <a:close/>
              </a:path>
              <a:path fill="none" w="21600" h="21600">
                <a:moveTo>
                  <a:pt x="13852" y="440"/>
                </a:moveTo>
                <a:arcTo wR="10800" hR="10800" stAng="-4414994" swAng="4414994"/>
              </a:path>
            </a:pathLst>
          </a:custGeo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 rot="20194200">
            <a:off x="4972320" y="3340800"/>
            <a:ext cx="1110600" cy="155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52" y="440"/>
                </a:moveTo>
                <a:arcTo wR="10800" hR="10800" stAng="-4414994" swAng="4414994"/>
                <a:lnTo>
                  <a:pt x="10800" y="10800"/>
                </a:lnTo>
                <a:close/>
              </a:path>
              <a:path fill="none" w="21600" h="21600">
                <a:moveTo>
                  <a:pt x="13852" y="440"/>
                </a:moveTo>
                <a:arcTo wR="10800" hR="10800" stAng="-4414994" swAng="4414994"/>
              </a:path>
            </a:pathLst>
          </a:custGeo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38880" y="2657520"/>
            <a:ext cx="1533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 rot="20194200">
            <a:off x="3148200" y="2100960"/>
            <a:ext cx="1110600" cy="155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52" y="440"/>
                </a:moveTo>
                <a:arcTo wR="10800" hR="10800" stAng="-4414994" swAng="4414994"/>
                <a:lnTo>
                  <a:pt x="10800" y="10800"/>
                </a:lnTo>
                <a:close/>
              </a:path>
              <a:path fill="none" w="21600" h="21600">
                <a:moveTo>
                  <a:pt x="13852" y="440"/>
                </a:moveTo>
                <a:arcTo wR="10800" hR="10800" stAng="-4414994" swAng="4414994"/>
              </a:path>
            </a:pathLst>
          </a:custGeo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20194200">
            <a:off x="2885040" y="2907360"/>
            <a:ext cx="1110600" cy="155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52" y="440"/>
                </a:moveTo>
                <a:arcTo wR="10800" hR="10800" stAng="-4414994" swAng="4414994"/>
                <a:lnTo>
                  <a:pt x="10800" y="10800"/>
                </a:lnTo>
                <a:close/>
              </a:path>
              <a:path fill="none" w="21600" h="21600">
                <a:moveTo>
                  <a:pt x="13852" y="440"/>
                </a:moveTo>
                <a:arcTo wR="10800" hR="10800" stAng="-4414994" swAng="4414994"/>
              </a:path>
            </a:pathLst>
          </a:custGeo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75240" y="3772080"/>
            <a:ext cx="800280" cy="355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45200" y="3860640"/>
            <a:ext cx="1003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284440" y="3958920"/>
            <a:ext cx="90180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21360" y="420372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嘀攀爀搀愀渀愀"/>
              </a:rPr>
              <a:t>Critical Steps in our Annotation Process</a:t>
            </a: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8760" y="888840"/>
            <a:ext cx="850428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Running Computes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Selection and Filtering Evidence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Intelligent Automated Gene Caller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Genome Browser and Editor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Annotation Rules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Trained Manual Annotators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Annotation QA Process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Computes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914400"/>
            <a:ext cx="2895840" cy="4597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shed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1600200"/>
            <a:ext cx="457200" cy="73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1200" y="1486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M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154944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ology 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27200" y="19432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Alig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6000" y="1943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 Predi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29080" y="2908440"/>
            <a:ext cx="1180800" cy="1892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9880" y="4876920"/>
            <a:ext cx="1981440" cy="160020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38480" y="5410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d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22840" y="2909880"/>
            <a:ext cx="384804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a0000"/>
                </a:solidFill>
                <a:latin typeface="Arial"/>
              </a:rPr>
              <a:t>Filtering of High Quality Evi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a0000"/>
                </a:solidFill>
                <a:latin typeface="Arial"/>
              </a:rPr>
              <a:t>Identity &gt;95% and &gt;50% QS 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a0000"/>
                </a:solidFill>
                <a:latin typeface="Arial"/>
              </a:rPr>
              <a:t>Splice J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a0000"/>
                </a:solidFill>
                <a:latin typeface="Arial"/>
              </a:rPr>
              <a:t>Rank 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a0000"/>
                </a:solidFill>
                <a:latin typeface="Arial"/>
              </a:rPr>
              <a:t>Repeat filt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46760" y="57913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88360" y="5562720"/>
            <a:ext cx="1636200" cy="4597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87600" y="2438280"/>
            <a:ext cx="2209680" cy="4597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w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743200" y="1828800"/>
            <a:ext cx="5715000" cy="4267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TranscriptHunter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54" name=""/>
          <p:cNvSpPr/>
          <p:nvPr/>
        </p:nvSpPr>
        <p:spPr>
          <a:xfrm>
            <a:off x="223920" y="766800"/>
            <a:ext cx="1600200" cy="129204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1000" y="1209600"/>
            <a:ext cx="129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1981080"/>
            <a:ext cx="2971800" cy="76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Arial"/>
              </a:rPr>
              <a:t>Exon-based Clus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Gene Lo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43040" y="3276720"/>
            <a:ext cx="2713680" cy="76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Arial"/>
              </a:rPr>
              <a:t>Intron Edge Clus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y Vari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28195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45640" y="1509840"/>
            <a:ext cx="18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ranscriptHu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4114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93160" y="4546440"/>
            <a:ext cx="3010680" cy="1490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Arial"/>
              </a:rPr>
              <a:t>Creation of Gene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F and UT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cript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ation 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0080" y="1800360"/>
            <a:ext cx="814680" cy="2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-1080"/>
            <a:ext cx="8610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嘀攀爀搀愀渀愀"/>
              </a:rPr>
              <a:t>Screening of spliced ESTs contained within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嘀攀爀搀愀渀愀"/>
              </a:rPr>
              <a:t>repeat elements</a:t>
            </a:r>
            <a:endParaRPr b="0" lang="en-US" sz="18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14400" y="2133720"/>
          <a:ext cx="7108920" cy="452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2133720"/>
                    <a:ext cx="7108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 flipV="1">
            <a:off x="6629400" y="205704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38880" y="160020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uYb8 Repe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10280" y="3200400"/>
            <a:ext cx="152640" cy="2895480"/>
          </a:xfrm>
          <a:custGeom>
            <a:avLst/>
            <a:gdLst>
              <a:gd name="textAreaLeft" fmla="*/ 0 w 152640"/>
              <a:gd name="textAreaRight" fmla="*/ 55080 w 15264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91520" y="4267080"/>
            <a:ext cx="1600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ced 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15:47:53Z</dcterms:created>
  <dc:creator>Mark Borowsky</dc:creator>
  <dc:description/>
  <dc:language>en-US</dc:language>
  <cp:lastModifiedBy>CDKodira</cp:lastModifiedBy>
  <cp:lastPrinted>2003-06-25T21:29:52Z</cp:lastPrinted>
  <dcterms:modified xsi:type="dcterms:W3CDTF">2004-04-26T19:32:02Z</dcterms:modified>
  <cp:revision>303</cp:revision>
  <dc:subject/>
  <dc:title>No Slide Title</dc:title>
</cp:coreProperties>
</file>